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30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34.gif" ContentType="image/gif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.png" ContentType="image/png"/>
  <Override PartName="/ppt/media/image21.gif" ContentType="image/gif"/>
  <Override PartName="/ppt/media/image24.png" ContentType="image/png"/>
  <Override PartName="/ppt/media/image11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831-4AB0-44F2-B247-505246A5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-252360"/>
            <a:ext cx="777096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BF9-70F9-4171-8626-656DB71A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-252360"/>
            <a:ext cx="777096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2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2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217-25EB-4002-967F-C54D3041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-252360"/>
            <a:ext cx="777096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29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2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29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2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FE2-BEA7-4F19-BD2A-6B36F006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5E07-6AA6-46CC-866E-36380DC3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-252360"/>
            <a:ext cx="777096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1178-9453-4A27-9D82-5B3D5021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-252360"/>
            <a:ext cx="777096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D013-3E9B-4CC1-A301-8B550F95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-252360"/>
            <a:ext cx="777096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660A-E297-4F80-B1E1-ECF1484F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-252360"/>
            <a:ext cx="777096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4A09-B908-4B5E-B498-E1D3D942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-252360"/>
            <a:ext cx="777096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BB6A-F745-475E-82D9-4BF68A5E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252360"/>
            <a:ext cx="777096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2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29E2-AD0F-4F04-9F50-928FEC98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-252360"/>
            <a:ext cx="777096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3659-8EB0-4B51-A5A1-188201C5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-252360"/>
            <a:ext cx="777096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2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2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50FE-9010-45CB-9E0D-C28EDB01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252360"/>
            <a:ext cx="777096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2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0FF2-0C5A-41BB-93D5-8B235220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-252360"/>
            <a:ext cx="777096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82A5-4BDB-4BD7-8275-26ADDE5B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252360"/>
            <a:ext cx="777096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2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2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CE60-7EE1-4B45-AE7B-58ED494D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252360"/>
            <a:ext cx="777096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29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2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29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2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4C2A-F62C-4BCF-A9A9-7F16D57A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-252360"/>
            <a:ext cx="777096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F145-9CD8-4633-8597-E48DBB77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252360"/>
            <a:ext cx="777096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2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E33-EEBC-4FC0-AAA0-5B98AA95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-252360"/>
            <a:ext cx="777096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7CCE-EA41-46E8-938B-D62CF100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-252360"/>
            <a:ext cx="777096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8DB2-D5E5-49A0-B580-2BC3FDDB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252360"/>
            <a:ext cx="777096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2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2A9A-A4A0-4B89-B15E-C92A3C03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252360"/>
            <a:ext cx="777096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2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2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194A-CB5A-4EBE-BDEC-D7F80A4B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-252360"/>
            <a:ext cx="777096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004-02C7-44B0-A698-B9C527F5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-252360"/>
            <a:ext cx="777096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0E6060-8046-47DE-987C-4AD00C2C6052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8440" y="3587760"/>
                <a:ext cx="382320" cy="1832040"/>
              </a:xfrm>
              <a:custGeom>
                <a:avLst/>
                <a:gdLst>
                  <a:gd name="textAreaLeft" fmla="*/ 184320 w 382320"/>
                  <a:gd name="textAreaRight" fmla="*/ 382320 w 382320"/>
                  <a:gd name="textAreaTop" fmla="*/ 0 h 1832040"/>
                  <a:gd name="textAreaBottom" fmla="*/ 1832040 h 1832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1401120" y="-607680"/>
            <a:ext cx="10543680" cy="8965080"/>
            <a:chOff x="-1401120" y="-607680"/>
            <a:chExt cx="10543680" cy="8965080"/>
          </a:xfrm>
        </p:grpSpPr>
        <p:grpSp>
          <p:nvGrpSpPr>
            <p:cNvPr id="56" name=""/>
            <p:cNvGrpSpPr/>
            <p:nvPr/>
          </p:nvGrpSpPr>
          <p:grpSpPr>
            <a:xfrm>
              <a:off x="-1401120" y="-607680"/>
              <a:ext cx="9066240" cy="8965080"/>
              <a:chOff x="-1401120" y="-607680"/>
              <a:chExt cx="9066240" cy="896508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-1401120" y="-607680"/>
                <a:ext cx="9066240" cy="8965080"/>
                <a:chOff x="-1401120" y="-607680"/>
                <a:chExt cx="9066240" cy="8965080"/>
              </a:xfrm>
            </p:grpSpPr>
            <p:sp>
              <p:nvSpPr>
                <p:cNvPr id="58" name=""/>
                <p:cNvSpPr/>
                <p:nvPr/>
              </p:nvSpPr>
              <p:spPr>
                <a:xfrm rot="12360000">
                  <a:off x="-293760" y="55836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573360" y="396828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2052360" y="4074840"/>
                  <a:ext cx="90468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3766320" y="325044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06036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0500000">
                  <a:off x="2055600" y="3553920"/>
                  <a:ext cx="1150920" cy="2451240"/>
                </a:xfrm>
                <a:custGeom>
                  <a:avLst/>
                  <a:gdLst>
                    <a:gd name="textAreaLeft" fmla="*/ 2160 w 1150920"/>
                    <a:gd name="textAreaRight" fmla="*/ 1150920 w 1150920"/>
                    <a:gd name="textAreaTop" fmla="*/ 1091880 h 2451240"/>
                    <a:gd name="textAreaBottom" fmla="*/ 2451240 h 245124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3886200" y="2873520"/>
                <a:ext cx="514440" cy="366480"/>
              </a:xfr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7520" y="739800"/>
            <a:ext cx="777096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52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8420731-7D0F-454C-A775-CF48654D406E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979640" y="1268280"/>
            <a:ext cx="6264360" cy="998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А  ЧЕЛОВЕК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19280" y="3141720"/>
            <a:ext cx="3311640" cy="2870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764000" cy="1492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435640" y="3284640"/>
            <a:ext cx="34923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«</a:t>
            </a: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Человек, его права и свободы являются высшей ценностью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Признание, соблюдение и защита прав и свобод человека и гражданина - обязанность государства» 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ст. 2 Конституции Р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6553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19280" y="225000"/>
            <a:ext cx="410508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Verdana"/>
              </a:rPr>
              <a:t>Нарушения </a:t>
            </a:r>
            <a:br>
              <a:rPr sz="2400"/>
            </a:br>
            <a:r>
              <a:rPr b="1" i="1" lang="ru-RU" sz="2400" spc="-1" strike="noStrike">
                <a:solidFill>
                  <a:srgbClr val="ccecff"/>
                </a:solidFill>
                <a:latin typeface="Verdana"/>
              </a:rPr>
              <a:t>прав человека</a:t>
            </a:r>
            <a:endParaRPr b="0" lang="en-US" sz="2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47280" y="1844280"/>
            <a:ext cx="759636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В основе классификации нарушения прав человека и политического насилия  могут быть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1640">
              <a:lnSpc>
                <a:spcPct val="135000"/>
              </a:lnSpc>
              <a:spcBef>
                <a:spcPts val="451"/>
              </a:spcBef>
              <a:buClr>
                <a:srgbClr val="6699ff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ерьезность нарушений (какие права нарушены?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1640">
              <a:lnSpc>
                <a:spcPct val="135000"/>
              </a:lnSpc>
              <a:spcBef>
                <a:spcPts val="451"/>
              </a:spcBef>
              <a:buClr>
                <a:srgbClr val="6699ff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частота нарушений (как часто?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1640">
              <a:lnSpc>
                <a:spcPct val="135000"/>
              </a:lnSpc>
              <a:spcBef>
                <a:spcPts val="451"/>
              </a:spcBef>
              <a:buClr>
                <a:srgbClr val="6699ff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масштаб нарушений (сколько человек страдает?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971640" y="4724280"/>
            <a:ext cx="2539800" cy="1905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236000" y="4724280"/>
            <a:ext cx="1736640" cy="1944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55640" y="0"/>
            <a:ext cx="2627280" cy="1484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7763040" y="0"/>
            <a:ext cx="1236600" cy="1484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3851280" y="4724280"/>
            <a:ext cx="1141560" cy="1944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5292720" y="4724280"/>
            <a:ext cx="169704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6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2492280"/>
            <a:ext cx="9144000" cy="47260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«ПРАВО КАСАЕТСЯ СВОБОДЫ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САМОГО ДОСТОЙНОГО И СВЯЩЕННО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В ЧЕЛОВЕКЕ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И ОН САМ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ПОСКОЛЬКУ ОНО ДЛЯ НЕГО ОБЯЗАТЕЛЬНО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ДОЛЖЕН ЗНАТЬ ЕГО.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                                              </a:t>
            </a: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ГЕГЕЛЬ (1770-1831), НЕМЕЦКИЙ ФИЛОСО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84360" y="1700280"/>
            <a:ext cx="7561080" cy="273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...ИМЕЮ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О...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155680" cy="16160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>
            <a:lum bright="6000"/>
          </a:blip>
          <a:srcRect l="0" t="67499" r="0" b="0"/>
          <a:stretch/>
        </p:blipFill>
        <p:spPr>
          <a:xfrm>
            <a:off x="755640" y="5084640"/>
            <a:ext cx="83883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716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836640" indent="-836640" algn="ctr">
              <a:lnSpc>
                <a:spcPct val="100000"/>
              </a:lnSpc>
              <a:buClr>
                <a:srgbClr val="fbbde0"/>
              </a:buClr>
              <a:buFont typeface="Arial Black"/>
              <a:buAutoNum type="arabicPeriod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ru-RU" sz="3200" spc="-1" strike="noStrike">
                <a:solidFill>
                  <a:srgbClr val="fbbde0"/>
                </a:solidFill>
                <a:latin typeface="Arial Black"/>
              </a:rPr>
              <a:t>РАЗМИНКА</a:t>
            </a:r>
            <a:br>
              <a:rPr sz="3200"/>
            </a:br>
            <a:r>
              <a:rPr b="0" lang="ru-RU" sz="3200" spc="-1" strike="noStrike">
                <a:solidFill>
                  <a:srgbClr val="fbbde0"/>
                </a:solidFill>
                <a:latin typeface="Arial Black"/>
              </a:rPr>
              <a:t>Чьё уче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71640" y="1260360"/>
          <a:ext cx="7777080" cy="5597280"/>
        </p:xfrm>
        <a:graphic>
          <a:graphicData uri="http://schemas.openxmlformats.org/drawingml/2006/table">
            <a:tbl>
              <a:tblPr/>
              <a:tblGrid>
                <a:gridCol w="4895640"/>
                <a:gridCol w="2881440"/>
              </a:tblGrid>
              <a:tr h="129240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Учени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e6fd4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ыслител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e6fd4"/>
                    </a:solidFill>
                  </a:tcPr>
                </a:tc>
              </a:tr>
              <a:tr h="119088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.    Он первым выдвинул учение о естественных правах человека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e6fd4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marL="533520" indent="-532080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33520"/>
                          <a:tab algn="l" pos="1447920"/>
                          <a:tab algn="l" pos="2362320"/>
                          <a:tab algn="l" pos="3276720"/>
                          <a:tab algn="l" pos="4191120"/>
                          <a:tab algn="l" pos="5105520"/>
                          <a:tab algn="l" pos="6019920"/>
                          <a:tab algn="l" pos="6934320"/>
                          <a:tab algn="l" pos="7848720"/>
                          <a:tab algn="l" pos="8763120"/>
                          <a:tab algn="l" pos="9677520"/>
                          <a:tab algn="l" pos="1059192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.    Ш.Монтескь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533520" indent="-532080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33520"/>
                          <a:tab algn="l" pos="1447920"/>
                          <a:tab algn="l" pos="2362320"/>
                          <a:tab algn="l" pos="3276720"/>
                          <a:tab algn="l" pos="4191120"/>
                          <a:tab algn="l" pos="5105520"/>
                          <a:tab algn="l" pos="6019920"/>
                          <a:tab algn="l" pos="6934320"/>
                          <a:tab algn="l" pos="7848720"/>
                          <a:tab algn="l" pos="8763120"/>
                          <a:tab algn="l" pos="9677520"/>
                          <a:tab algn="l" pos="1059192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e6fd4"/>
                    </a:solidFill>
                  </a:tcPr>
                </a:tc>
              </a:tr>
              <a:tr h="119088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.    «Свобода есть право делать всё, что дозволено законом»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e6fd4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.    Ж.-Ж. Русс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e6fd4"/>
                    </a:solidFill>
                  </a:tcPr>
                </a:tc>
              </a:tr>
              <a:tr h="192312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.    Этот мыслитель являлся сторонником всеобщего избирательного права. Идеальное государство- демократическая республика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e6fd4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.      Д. Локк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e6fd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31640" y="260280"/>
            <a:ext cx="506412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 Black"/>
              </a:rPr>
              <a:t>2. Соотнесите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2303280" cy="119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1042920" y="1413000"/>
          <a:ext cx="7850160" cy="5113080"/>
        </p:xfrm>
        <a:graphic>
          <a:graphicData uri="http://schemas.openxmlformats.org/drawingml/2006/table">
            <a:tbl>
              <a:tblPr/>
              <a:tblGrid>
                <a:gridCol w="685800"/>
                <a:gridCol w="4714920"/>
                <a:gridCol w="649440"/>
                <a:gridCol w="1800000"/>
              </a:tblGrid>
              <a:tr h="120312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нормативно-правовой акт, содержащий общеобязательные правила поведения по важным вопросам общественной жизни, принятый высшим представительным органом государства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ава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челове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гарантированные государством возможности человека в экономической, социальной, политической и культурной сферах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онституц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элемент правовой нормы, в котором изложены неблагоприятные последствия неправомерного поведен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закон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пособность лица иметь права и обязанность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еступлени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сновной закон государства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анкц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едусмотренное уголовным законом виновно совершенное общественно опасное деяние физического лиц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авоспособность 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95640" y="228600"/>
            <a:ext cx="671976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 Black"/>
              </a:rPr>
              <a:t>3. “Документы”</a:t>
            </a:r>
            <a:endParaRPr b="0" lang="en-US" sz="2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6000" y="836640"/>
            <a:ext cx="7772400" cy="60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еречислите документы, защищающие права ребёнка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1. Международные                 2. Российск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А) Всеобщая декларация прав ребён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Б) Конституция РФ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В) Декларация прав ребён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Г) Семейный кодек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Д) Конвенция о правах ребён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Е) Гражданский кодек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Ж) Уголовный кодекс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95280" y="117360"/>
            <a:ext cx="1368360" cy="13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916360" y="260280"/>
            <a:ext cx="578304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4. «Заморочки»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6000" y="1483920"/>
            <a:ext cx="784872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8040" indent="-608040"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ецензурная брань учащихся в школе – это издержки культуры или противоправное деяние?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8040" indent="-608040"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Может ли быть привлечен к уголовной ответственности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8040" indent="0"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4-летний подросток, вымогавший деньги у одноклассников?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8040" indent="0"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8040" indent="0"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3.       Можно ли расценивать как шалость заведомо ложное сообщение о готовящемся взрыве в школе учащимся, не желающим писать контрольную работу?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8040" indent="0"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8040" indent="-608040"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то пользуется преимущественными правами в отношении детей – отец или мать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8040" indent="0"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8040" indent="-608040"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 какого возраста ребенок приобретает право на уважение его человеческого достоинства?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4000" y="150840"/>
            <a:ext cx="2303280" cy="11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19280" y="-52920"/>
            <a:ext cx="506412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5. Сказка -  ложь,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          да в ней намек ….</a:t>
            </a:r>
            <a:endParaRPr b="0" lang="en-US" sz="28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2303280" cy="1195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4214880" cy="5472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700360" y="1125360"/>
            <a:ext cx="3978360" cy="5400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1042920" y="1197000"/>
            <a:ext cx="7848720" cy="5327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rcRect l="0" t="0" r="0" b="6614"/>
          <a:stretch/>
        </p:blipFill>
        <p:spPr>
          <a:xfrm>
            <a:off x="1042920" y="1197000"/>
            <a:ext cx="783432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 fill="hold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03280" y="0"/>
            <a:ext cx="8640720" cy="660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08680" cy="67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32000" y="213372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АВА ЧЕЛОВЕК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— права, считаемые прирождёнными и неотъемлемыми для каждого человека независимо от его гражданства, пола, возраста, расы, этнической или религиозной принадлежност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АВО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— система общеобязательных социальных норм, установленных или санкционированных государством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МЕЖДУНАРОДНОЕ ПРАВО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- публичное, совокупность юридических принципов и норм, регулирующих отношения между государствами и другими участниками (субъектами) международного общения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69080" y="187200"/>
            <a:ext cx="1260720" cy="1260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195280" y="228600"/>
            <a:ext cx="5113080" cy="53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ecff"/>
                </a:solidFill>
                <a:latin typeface="Verdana"/>
              </a:rPr>
              <a:t>СЛОВАРЬ</a:t>
            </a:r>
            <a:endParaRPr b="0" lang="en-US" sz="28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66760" y="0"/>
            <a:ext cx="6789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6. Правоохранительные органы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Российской Федерации</a:t>
            </a:r>
            <a:endParaRPr b="0" lang="en-US" sz="2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1700280"/>
            <a:ext cx="316836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……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Осуществляют правосудие и обеспечивают законность в обществ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1806480"/>
            <a:ext cx="266400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………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адзирает за соблюдением законов, представляет интересы государства в судебном процесс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1280" y="3933720"/>
            <a:ext cx="302400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………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ледят за общественным порядком, борются с правонарушениям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40360" y="3780000"/>
            <a:ext cx="287964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……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Борется с терроризмом, шпионажем и другими преступлениями против государст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16360" y="5229360"/>
            <a:ext cx="29509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……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ледит за законностью перемещений товаров через границ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338200" y="1260360"/>
            <a:ext cx="2522520" cy="655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769840" y="1268280"/>
            <a:ext cx="2019240" cy="2952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59280" y="1260360"/>
            <a:ext cx="1800" cy="414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59280" y="1260360"/>
            <a:ext cx="1800360" cy="655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59280" y="1260360"/>
            <a:ext cx="1042920" cy="2592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402920" y="188640"/>
            <a:ext cx="734076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лакат на тему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"Каждый человек имеет право на жизнь"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7634520" cy="4664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42920" y="501300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Счастье всего мира не стоит одной слезы на щеке невинного ребёнка”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                   </a:t>
            </a: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Ф.М.Достоевск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627280" y="333000"/>
            <a:ext cx="6121440" cy="63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"Права, которые я имею и хочу сохранить"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"Права, которых у меня нет, но хочу иметь";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« Права, которые я не хотел бы иметь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"Если бы я был родителем, то дал бы моим детям право на…";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"Если бы мои права были нарушены, я бы сделал…"</a:t>
            </a:r>
            <a:br>
              <a:rPr sz="2800"/>
            </a:b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16000" y="3645000"/>
            <a:ext cx="2173320" cy="2879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0635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258560" y="1699920"/>
            <a:ext cx="7561080" cy="47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0 декабря 1948 г. Ассамблеей ООН была принята «Всеобщая декларации прав человека» в качестве «задачи, к выполнению которой должны стремиться все народы и все государства»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1950 году Генеральная Ассамблея предложила всем государствам и заинтересованным организациям отмечать 10 декабря в качестве Дня прав человек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058920" y="-360"/>
            <a:ext cx="579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ecff"/>
                </a:solidFill>
                <a:latin typeface="Verdana"/>
              </a:rPr>
              <a:t>«МЫ МОЖЕМ СТАТЬ СВОБОДНЫМИ ТОЛЬКО ТОГДА, КОГДА СТАНЕМ РАБАМИ ЗАКОНА»</a:t>
            </a:r>
            <a:br>
              <a:rPr sz="1600"/>
            </a:br>
            <a:r>
              <a:rPr b="1" i="1" lang="ru-RU" sz="1400" spc="-1" strike="noStrike">
                <a:solidFill>
                  <a:srgbClr val="ccecff"/>
                </a:solidFill>
                <a:latin typeface="Book Antiqua"/>
              </a:rPr>
              <a:t>ЦИЦЕРОН</a:t>
            </a:r>
            <a:endParaRPr b="0" lang="en-US" sz="14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176364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659280" y="4436640"/>
            <a:ext cx="24843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i="1" lang="ru-RU" sz="1200" spc="-1" strike="noStrike">
                <a:solidFill>
                  <a:srgbClr val="eaeaea"/>
                </a:solidFill>
                <a:latin typeface="Verdana"/>
              </a:rPr>
              <a:t>В 1966 году под эгидой ООН приняты «Международный пакт о гражданских и политических правах» и «Международный пакт об экономических, социальных и культурных правах»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114560" y="333360"/>
            <a:ext cx="6665760" cy="5219640"/>
            <a:chOff x="1114560" y="333360"/>
            <a:chExt cx="6665760" cy="5219640"/>
          </a:xfrm>
        </p:grpSpPr>
        <p:sp>
          <p:nvSpPr>
            <p:cNvPr id="122" name=""/>
            <p:cNvSpPr/>
            <p:nvPr/>
          </p:nvSpPr>
          <p:spPr>
            <a:xfrm flipH="1" flipV="1">
              <a:off x="3903480" y="2708280"/>
              <a:ext cx="642600" cy="223920"/>
            </a:xfrm>
            <a:prstGeom prst="line">
              <a:avLst/>
            </a:prstGeom>
            <a:ln w="2844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87680" y="1789200"/>
              <a:ext cx="1347840" cy="14065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ff66"/>
                  </a:solidFill>
                  <a:latin typeface="Verdana"/>
                </a:rPr>
                <a:t>Конституция</a:t>
              </a:r>
              <a:r>
                <a:rPr b="0" lang="ru-RU" sz="14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392360" y="3714840"/>
              <a:ext cx="399960" cy="563400"/>
            </a:xfrm>
            <a:prstGeom prst="line">
              <a:avLst/>
            </a:prstGeom>
            <a:ln w="2844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22800" y="4146480"/>
              <a:ext cx="1347480" cy="1406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Verdana"/>
                </a:rPr>
                <a:t>1791 год-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Verdana"/>
                </a:rPr>
                <a:t>Американский 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Verdana"/>
                </a:rPr>
                <a:t>«Билль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Verdana"/>
                </a:rPr>
                <a:t> </a:t>
              </a:r>
              <a:r>
                <a:rPr b="1" lang="ru-RU" sz="1100" spc="-1" strike="noStrike">
                  <a:solidFill>
                    <a:srgbClr val="ffff66"/>
                  </a:solidFill>
                  <a:latin typeface="Verdana"/>
                </a:rPr>
                <a:t>о правах»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1800" y="3711600"/>
              <a:ext cx="393480" cy="566640"/>
            </a:xfrm>
            <a:prstGeom prst="line">
              <a:avLst/>
            </a:prstGeom>
            <a:ln w="2844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97360" y="4146480"/>
              <a:ext cx="1347840" cy="14065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Verdana"/>
                </a:rPr>
                <a:t>1789 год –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Verdana"/>
                </a:rPr>
                <a:t>французская –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Verdana"/>
                </a:rPr>
                <a:t>Декларация  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Verdana"/>
                </a:rPr>
                <a:t>прав человека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Verdana"/>
                </a:rPr>
                <a:t> </a:t>
              </a:r>
              <a:r>
                <a:rPr b="1" lang="ru-RU" sz="1100" spc="-1" strike="noStrike">
                  <a:solidFill>
                    <a:srgbClr val="ffff66"/>
                  </a:solidFill>
                  <a:latin typeface="Verdana"/>
                </a:rPr>
                <a:t>и гражданина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823000" y="2707920"/>
              <a:ext cx="639720" cy="219240"/>
            </a:xfrm>
            <a:prstGeom prst="line">
              <a:avLst/>
            </a:prstGeom>
            <a:ln w="2844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32480" y="1789200"/>
              <a:ext cx="1347840" cy="1406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Verdana"/>
                </a:rPr>
                <a:t>1215 год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Verdana"/>
                </a:rPr>
                <a:t>Английская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Verdana"/>
                </a:rPr>
                <a:t> </a:t>
              </a:r>
              <a:r>
                <a:rPr b="1" lang="ru-RU" sz="1100" spc="-1" strike="noStrike">
                  <a:solidFill>
                    <a:srgbClr val="ffff66"/>
                  </a:solidFill>
                  <a:latin typeface="Verdana"/>
                </a:rPr>
                <a:t>«Великая 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Verdana"/>
                </a:rPr>
                <a:t>хартия 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Verdana"/>
                </a:rPr>
                <a:t>вольностей»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5184720" y="1738440"/>
              <a:ext cx="1800" cy="704880"/>
            </a:xfrm>
            <a:prstGeom prst="line">
              <a:avLst/>
            </a:prstGeom>
            <a:ln w="2844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10080" y="333360"/>
              <a:ext cx="1347840" cy="14065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Verdana"/>
                </a:rPr>
                <a:t>10.12.1948 год-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Verdana"/>
                </a:rPr>
                <a:t>«Всеобщая 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Verdana"/>
                </a:rPr>
                <a:t>декларация 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Verdana"/>
                </a:rPr>
                <a:t>прав человека»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10080" y="2443320"/>
              <a:ext cx="1347840" cy="14065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5e6fd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ff66"/>
                  </a:solidFill>
                  <a:latin typeface="Verdana"/>
                </a:rPr>
                <a:t>Пакты 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ff66"/>
                  </a:solidFill>
                  <a:latin typeface="Verdana"/>
                </a:rPr>
                <a:t>и 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ff66"/>
                  </a:solidFill>
                  <a:latin typeface="Verdana"/>
                </a:rPr>
                <a:t>декларации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7"/>
            <a:stretch/>
          </p:blipFill>
          <p:spPr>
            <a:xfrm>
              <a:off x="1114560" y="333360"/>
              <a:ext cx="1573200" cy="20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6300720" y="189000"/>
            <a:ext cx="259236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eaeaea"/>
                </a:solidFill>
                <a:latin typeface="Verdana"/>
              </a:rPr>
              <a:t>С 10 декабря 1950 года отмечается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eaeaea"/>
                </a:solidFill>
                <a:latin typeface="Verdana"/>
              </a:rPr>
              <a:t>День прав человека</a:t>
            </a: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4508640"/>
            <a:ext cx="252072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eaeaea"/>
                </a:solidFill>
                <a:latin typeface="Verdana"/>
              </a:rPr>
              <a:t>Конституция</a:t>
            </a:r>
            <a:r>
              <a:rPr b="0" i="1" lang="ru-RU" sz="1200" spc="-1" strike="noStrike">
                <a:solidFill>
                  <a:srgbClr val="eaeaea"/>
                </a:solidFill>
                <a:latin typeface="Verdana"/>
              </a:rPr>
              <a:t>  - основной закон государства, определяющий его общественное и государственное устройство, порядок и принципы образования представительных органов власти, избирательную систему, основные права и обязанности граждан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971640" y="2492280"/>
            <a:ext cx="1404720" cy="18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826920" y="-1567080"/>
            <a:ext cx="8317080" cy="8091720"/>
            <a:chOff x="826920" y="-1567080"/>
            <a:chExt cx="8317080" cy="8091720"/>
          </a:xfrm>
        </p:grpSpPr>
        <p:cxnSp>
          <p:nvCxnSpPr>
            <p:cNvPr id="138" name=""/>
            <p:cNvCxnSpPr>
              <a:stCxn id="139" idx="1"/>
              <a:endCxn id="140" idx="2"/>
            </p:cNvCxnSpPr>
            <p:nvPr/>
          </p:nvCxnSpPr>
          <p:spPr>
            <a:xfrm rot="10800000">
              <a:off x="7441560" y="-551520"/>
              <a:ext cx="211680" cy="3329640"/>
            </a:xfrm>
            <a:prstGeom prst="bentConnector3">
              <a:avLst>
                <a:gd name="adj1" fmla="val 49914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1" name=""/>
            <p:cNvCxnSpPr>
              <a:stCxn id="142" idx="1"/>
              <a:endCxn id="140" idx="2"/>
            </p:cNvCxnSpPr>
            <p:nvPr/>
          </p:nvCxnSpPr>
          <p:spPr>
            <a:xfrm rot="10800000">
              <a:off x="7438320" y="696240"/>
              <a:ext cx="213480" cy="2081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3" name=""/>
            <p:cNvCxnSpPr>
              <a:stCxn id="144" idx="1"/>
              <a:endCxn id="140" idx="2"/>
            </p:cNvCxnSpPr>
            <p:nvPr/>
          </p:nvCxnSpPr>
          <p:spPr>
            <a:xfrm rot="10800000">
              <a:off x="7438320" y="1944000"/>
              <a:ext cx="213480" cy="832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5" name=""/>
            <p:cNvCxnSpPr>
              <a:stCxn id="146" idx="3"/>
              <a:endCxn id="147" idx="2"/>
            </p:cNvCxnSpPr>
            <p:nvPr/>
          </p:nvCxnSpPr>
          <p:spPr>
            <a:xfrm flipV="1">
              <a:off x="4452480" y="2774520"/>
              <a:ext cx="213480" cy="3331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8" name=""/>
            <p:cNvCxnSpPr>
              <a:stCxn id="149" idx="3"/>
              <a:endCxn id="147" idx="2"/>
            </p:cNvCxnSpPr>
            <p:nvPr/>
          </p:nvCxnSpPr>
          <p:spPr>
            <a:xfrm flipV="1">
              <a:off x="4452480" y="2774160"/>
              <a:ext cx="213480" cy="2081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0" name=""/>
            <p:cNvCxnSpPr>
              <a:stCxn id="151" idx="3"/>
              <a:endCxn id="147" idx="2"/>
            </p:cNvCxnSpPr>
            <p:nvPr/>
          </p:nvCxnSpPr>
          <p:spPr>
            <a:xfrm flipV="1">
              <a:off x="4452480" y="2774160"/>
              <a:ext cx="213480" cy="832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2" name=""/>
            <p:cNvCxnSpPr>
              <a:stCxn id="153" idx="0"/>
              <a:endCxn id="154" idx="2"/>
            </p:cNvCxnSpPr>
            <p:nvPr/>
          </p:nvCxnSpPr>
          <p:spPr>
            <a:xfrm flipV="1">
              <a:off x="6159240" y="2774160"/>
              <a:ext cx="41652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5" name=""/>
            <p:cNvCxnSpPr>
              <a:stCxn id="156" idx="3"/>
              <a:endCxn id="157" idx="2"/>
            </p:cNvCxnSpPr>
            <p:nvPr/>
          </p:nvCxnSpPr>
          <p:spPr>
            <a:xfrm flipV="1">
              <a:off x="2746080" y="2774520"/>
              <a:ext cx="213480" cy="333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8" name=""/>
            <p:cNvCxnSpPr>
              <a:stCxn id="159" idx="3"/>
              <a:endCxn id="157" idx="2"/>
            </p:cNvCxnSpPr>
            <p:nvPr/>
          </p:nvCxnSpPr>
          <p:spPr>
            <a:xfrm flipV="1">
              <a:off x="2746080" y="2774520"/>
              <a:ext cx="213480" cy="2083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0" name=""/>
            <p:cNvCxnSpPr>
              <a:stCxn id="161" idx="3"/>
              <a:endCxn id="157" idx="2"/>
            </p:cNvCxnSpPr>
            <p:nvPr/>
          </p:nvCxnSpPr>
          <p:spPr>
            <a:xfrm flipV="1">
              <a:off x="2746080" y="2774160"/>
              <a:ext cx="213480" cy="834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2" name=""/>
            <p:cNvCxnSpPr>
              <a:stCxn id="140" idx="0"/>
              <a:endCxn id="163" idx="2"/>
            </p:cNvCxnSpPr>
            <p:nvPr/>
          </p:nvCxnSpPr>
          <p:spPr>
            <a:xfrm rot="10800000">
              <a:off x="4556880" y="-1566720"/>
              <a:ext cx="416880" cy="3093120"/>
            </a:xfrm>
            <a:prstGeom prst="bentConnector3">
              <a:avLst>
                <a:gd name="adj1" fmla="val 49956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4" name=""/>
            <p:cNvCxnSpPr>
              <a:stCxn id="154" idx="0"/>
              <a:endCxn id="163" idx="2"/>
            </p:cNvCxnSpPr>
            <p:nvPr/>
          </p:nvCxnSpPr>
          <p:spPr>
            <a:xfrm rot="10800000">
              <a:off x="4556880" y="-75240"/>
              <a:ext cx="416880" cy="1600920"/>
            </a:xfrm>
            <a:prstGeom prst="bentConnector3">
              <a:avLst>
                <a:gd name="adj1" fmla="val 49956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5" name=""/>
            <p:cNvCxnSpPr>
              <a:stCxn id="147" idx="0"/>
              <a:endCxn id="163" idx="2"/>
            </p:cNvCxnSpPr>
            <p:nvPr/>
          </p:nvCxnSpPr>
          <p:spPr>
            <a:xfrm rot="10800000">
              <a:off x="4555440" y="1416960"/>
              <a:ext cx="416520" cy="108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6" name=""/>
            <p:cNvCxnSpPr>
              <a:stCxn id="157" idx="0"/>
              <a:endCxn id="163" idx="2"/>
            </p:cNvCxnSpPr>
            <p:nvPr/>
          </p:nvCxnSpPr>
          <p:spPr>
            <a:xfrm flipV="1">
              <a:off x="2958840" y="-71640"/>
              <a:ext cx="416520" cy="1599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7" name=""/>
            <p:cNvCxnSpPr>
              <a:stCxn id="168" idx="0"/>
              <a:endCxn id="163" idx="2"/>
            </p:cNvCxnSpPr>
            <p:nvPr/>
          </p:nvCxnSpPr>
          <p:spPr>
            <a:xfrm flipV="1">
              <a:off x="1466640" y="-1567080"/>
              <a:ext cx="416520" cy="3093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63" name=""/>
            <p:cNvSpPr/>
            <p:nvPr/>
          </p:nvSpPr>
          <p:spPr>
            <a:xfrm>
              <a:off x="3917880" y="692280"/>
              <a:ext cx="1279440" cy="833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Times New Roman"/>
                </a:rPr>
                <a:t>ОТРАСЛИ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Times New Roman"/>
                </a:rPr>
                <a:t> </a:t>
              </a:r>
              <a:r>
                <a:rPr b="1" lang="ru-RU" sz="1100" spc="-1" strike="noStrike">
                  <a:solidFill>
                    <a:srgbClr val="ffff66"/>
                  </a:solidFill>
                  <a:latin typeface="Times New Roman"/>
                </a:rPr>
                <a:t>РОССИЙСКОГО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Times New Roman"/>
                </a:rPr>
                <a:t> </a:t>
              </a:r>
              <a:r>
                <a:rPr b="1" lang="ru-RU" sz="1100" spc="-1" strike="noStrike">
                  <a:solidFill>
                    <a:srgbClr val="ffff66"/>
                  </a:solidFill>
                  <a:latin typeface="Times New Roman"/>
                </a:rPr>
                <a:t>ПРАВА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6920" y="1941480"/>
              <a:ext cx="1279800" cy="833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ffff66"/>
                  </a:solidFill>
                  <a:latin typeface="Times New Roman"/>
                </a:rPr>
                <a:t>КОНСТИТУ-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ffff66"/>
                  </a:solidFill>
                  <a:latin typeface="Times New Roman"/>
                </a:rPr>
                <a:t>ЦИОННОЕ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19480" y="1941480"/>
              <a:ext cx="1279440" cy="833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ffff66"/>
                  </a:solidFill>
                  <a:latin typeface="Times New Roman"/>
                </a:rPr>
                <a:t>АДМИНИСТРА-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ffff66"/>
                  </a:solidFill>
                  <a:latin typeface="Times New Roman"/>
                </a:rPr>
                <a:t>ТИВНОЕ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25880" y="1941480"/>
              <a:ext cx="1279440" cy="833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Times New Roman"/>
                </a:rPr>
                <a:t>УГОЛОВНОЕ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19880" y="1941480"/>
              <a:ext cx="1279440" cy="833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Times New Roman"/>
                </a:rPr>
                <a:t>ГРАЖДАНСКОЕ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12080" y="1941480"/>
              <a:ext cx="1278000" cy="833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ffff66"/>
                  </a:solidFill>
                  <a:latin typeface="Times New Roman"/>
                </a:rPr>
                <a:t>ТРУДОВОЕ 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67000" y="3191040"/>
              <a:ext cx="1279440" cy="83340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100" spc="-1" strike="noStrike">
                  <a:solidFill>
                    <a:srgbClr val="eaeaea"/>
                  </a:solidFill>
                  <a:latin typeface="Times New Roman"/>
                </a:rPr>
                <a:t>ПРЕДУПРЕЖДЕ-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100" spc="-1" strike="noStrike">
                  <a:solidFill>
                    <a:srgbClr val="eaeaea"/>
                  </a:solidFill>
                  <a:latin typeface="Times New Roman"/>
                </a:rPr>
                <a:t>НИЕ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67000" y="4441680"/>
              <a:ext cx="1279440" cy="83376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100" spc="-1" strike="noStrike">
                  <a:solidFill>
                    <a:srgbClr val="eaeaea"/>
                  </a:solidFill>
                  <a:latin typeface="Times New Roman"/>
                </a:rPr>
                <a:t>ШТРАФ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67000" y="5691240"/>
              <a:ext cx="1279440" cy="83340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100" spc="-1" strike="noStrike">
                  <a:solidFill>
                    <a:srgbClr val="eaeaea"/>
                  </a:solidFill>
                  <a:latin typeface="Times New Roman"/>
                </a:rPr>
                <a:t>АРЕСТ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19880" y="3191040"/>
              <a:ext cx="1279440" cy="83016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100" spc="-1" strike="noStrike">
                  <a:solidFill>
                    <a:srgbClr val="eaeaea"/>
                  </a:solidFill>
                  <a:latin typeface="Times New Roman"/>
                </a:rPr>
                <a:t>КОМПЕНСИ-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100" spc="-1" strike="noStrike">
                  <a:solidFill>
                    <a:srgbClr val="eaeaea"/>
                  </a:solidFill>
                  <a:latin typeface="Times New Roman"/>
                </a:rPr>
                <a:t>РОВАТЬ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100" spc="-1" strike="noStrike">
                  <a:solidFill>
                    <a:srgbClr val="eaeaea"/>
                  </a:solidFill>
                  <a:latin typeface="Times New Roman"/>
                </a:rPr>
                <a:t>ПРИЧИНЕН-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100" spc="-1" strike="noStrike">
                  <a:solidFill>
                    <a:srgbClr val="eaeaea"/>
                  </a:solidFill>
                  <a:latin typeface="Times New Roman"/>
                </a:rPr>
                <a:t>НЫЙ УЩЕРБ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73400" y="3191040"/>
              <a:ext cx="1279440" cy="83016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100" spc="-1" strike="noStrike">
                  <a:solidFill>
                    <a:srgbClr val="eaeaea"/>
                  </a:solidFill>
                  <a:latin typeface="Times New Roman"/>
                </a:rPr>
                <a:t>ШТРАФ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73400" y="4441680"/>
              <a:ext cx="1279440" cy="83052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100" spc="-1" strike="noStrike">
                  <a:solidFill>
                    <a:srgbClr val="eaeaea"/>
                  </a:solidFill>
                  <a:latin typeface="Times New Roman"/>
                </a:rPr>
                <a:t>КОНФИСКАЦИЯ 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100" spc="-1" strike="noStrike">
                  <a:solidFill>
                    <a:srgbClr val="eaeaea"/>
                  </a:solidFill>
                  <a:latin typeface="Times New Roman"/>
                </a:rPr>
                <a:t>ИМУЩЕСТВА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73400" y="5691240"/>
              <a:ext cx="1279440" cy="83016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100" spc="-1" strike="noStrike">
                  <a:solidFill>
                    <a:srgbClr val="eaeaea"/>
                  </a:solidFill>
                  <a:latin typeface="Times New Roman"/>
                </a:rPr>
                <a:t>ЛИШЕНИЕ 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100" spc="-1" strike="noStrike">
                  <a:solidFill>
                    <a:srgbClr val="eaeaea"/>
                  </a:solidFill>
                  <a:latin typeface="Times New Roman"/>
                </a:rPr>
                <a:t>СВОБОДЫ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64560" y="3191040"/>
              <a:ext cx="1279440" cy="83016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100" spc="-1" strike="noStrike">
                  <a:solidFill>
                    <a:srgbClr val="eaeaea"/>
                  </a:solidFill>
                  <a:latin typeface="Times New Roman"/>
                </a:rPr>
                <a:t>ЗАМЕЧАНИЕ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64560" y="4441680"/>
              <a:ext cx="1279440" cy="83052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100" spc="-1" strike="noStrike">
                  <a:solidFill>
                    <a:srgbClr val="eaeaea"/>
                  </a:solidFill>
                  <a:latin typeface="Times New Roman"/>
                </a:rPr>
                <a:t>ВЫГОВОР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64560" y="5691240"/>
              <a:ext cx="1279440" cy="83016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100" spc="-1" strike="noStrike">
                  <a:solidFill>
                    <a:srgbClr val="eaeaea"/>
                  </a:solidFill>
                  <a:latin typeface="Times New Roman"/>
                </a:rPr>
                <a:t>УВОЛЬНЕНИЕ</a:t>
              </a:r>
              <a:endParaRPr b="0" lang="en-US" sz="11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84360" cy="13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6920" y="558360"/>
            <a:ext cx="3357720" cy="91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Гражданские </a:t>
            </a:r>
            <a:br>
              <a:rPr sz="1800"/>
            </a:b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и политические права: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4680000" cy="461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жизнь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защиту от пыток, жестокого, бесчеловечного или унижающего достоинство обращения и наказания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защиту от рабства и принудительного труда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свободу и личную неприкосновенность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свободно передвигаться и выбирать место жительства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покидать свою страну и возвращаться в неё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справедливое судебное разбирательство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защиту от наказания, не предусмотренного законом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равную защиту закона без какой-либо дискриминаци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свободу мысли, совести и религи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свободу выражения собственного мнения и получение информаци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мирные собрания и ассоциаци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уважение частной и семейной жизн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участвовать в ведении государственных дел непосредственно или путем участия в свободных выборах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97800" y="187200"/>
            <a:ext cx="1260360" cy="1260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435640" y="2921040"/>
            <a:ext cx="37083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eaeaea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раво на защиту собственности;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aeaea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раво на труд и справедливые 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и благоприятные условия труда;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aeaea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раво на социальное обеспечение;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aeaea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раво на образование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1628640"/>
            <a:ext cx="283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Основные экономические, социальные культурные права</a:t>
            </a: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40360" y="4721040"/>
            <a:ext cx="29574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ffff66"/>
                </a:solidFill>
                <a:latin typeface="Verdana"/>
              </a:rPr>
              <a:t>Права остаются абстрактным понятием, пока граждане их реально не используют. Знание и владение правами - один из первых признаков демократического государства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222200" cy="12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онвенцию о правах ребенка называют Великой хартией вольностей для детей. Она состоит из пятидесяти четырех статей, детализирующих индивидуальные права каждого человека в возрасте до 18 лет на полное развитие своих возможностей в условиях, свободных от голода и нужды, жестокости, эксплуатации и других форм злоупотреблений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онвенция, ставшая результатом десяти лет переговоров, была принята Организацией Объединенных Наций 20 ноября 1989 г. и вступила в силу 2 сентября 1990г. после ратификации ее 20 государствами. К настоящему моменту 139 стран либо подписали этот документ, либо стали участниками Конвенции в результате ратификации или присоединения к ней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2663640" cy="1419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>
            <a:lum bright="6000"/>
          </a:blip>
          <a:srcRect l="0" t="67499" r="0" b="0"/>
          <a:stretch/>
        </p:blipFill>
        <p:spPr>
          <a:xfrm>
            <a:off x="755640" y="5445000"/>
            <a:ext cx="83883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27280" y="125280"/>
            <a:ext cx="37432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Bookman Old Style"/>
              </a:rPr>
              <a:t>ПРАВА РЕБЕНКА</a:t>
            </a:r>
            <a:endParaRPr b="0" lang="en-US" sz="2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7640" y="1628280"/>
            <a:ext cx="6912000" cy="461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семью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заботу и защиту со стороны государства, если нет временной или постоянной защиты со стороны родителей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посещать школу и учиться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равенство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свободно выражать свои мысли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собственное мнение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имя и гражданство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получение информации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защиту от насилия и жестокого обращения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медицинское обслуживание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отдых и досуг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дополнительную помощь со стороны государства, если есть особые потребности (например, у детей с ограниченными возможностями)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700000" y="549360"/>
            <a:ext cx="61196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Arial"/>
                <a:ea typeface="SimSun"/>
              </a:rPr>
              <a:t>     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  <a:ea typeface="SimSun"/>
              </a:rPr>
              <a:t>-  свод прав детей, зафиксированных в международных документах по правам ребёнка. Согласно Конвенции о правах ребенка ребенок - это лицо, не достигшее 18 лет. Государство взяло на себя обязательство защищать детей, поэтому они имеют такие же права, как и взрослые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2089080" cy="1566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26920" y="5433840"/>
            <a:ext cx="8317080" cy="14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187280" y="2707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бразование является предметом рассмотрения двух важных статей (27 и 28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чальное образование должно быть обязательным, бесплатным и доступным каждому и направленным на развитие личности ребенка, его дарований и природных способностей в условиях соответствующего уважения национальной самобытности, языка и традиционных ценностей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собый акцент делается на равенстве образовательных возможностей для девочек и мальчиков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8388360" cy="2639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2295720" cy="166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0:57:42Z</dcterms:created>
  <dc:creator>b</dc:creator>
  <dc:description/>
  <dc:language>en-US</dc:language>
  <cp:lastModifiedBy>ws</cp:lastModifiedBy>
  <dcterms:modified xsi:type="dcterms:W3CDTF">2011-12-28T08:20:47Z</dcterms:modified>
  <cp:revision>24</cp:revision>
  <dc:subject/>
  <dc:title>Слайд 1</dc:title>
</cp:coreProperties>
</file>